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A435-2142-4399-AA97-1F3309D5E37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39FB-9593-404D-9B90-7C9AA327307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1F1F-0A36-4A5F-9ED2-E0E8123446C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886C-F928-4794-A82D-EF9C482AC0D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9E64-9FEA-47D4-85BA-A1B4911BF32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ED4A-4258-48B1-B93E-8A766754752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C5C1-8EAE-4D0A-9661-CF73DD534DB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EECD-D636-475D-ADBB-4312674E710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D66A-FCC1-48D1-8273-77F60F0E3D9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6FB2-D096-4A50-969A-5277A7B4232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0ADA-6EFD-4509-A7BA-7D2C43FDDEC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F168-C6C2-4424-BAF0-5FD64DF451A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539-814E-4E33-A824-51B41028523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9C78-6651-417F-A85B-831F4D1EEB1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A25E-8A82-4A07-B0FD-FC4DEF09C5C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930-5F18-4EA6-B123-88176EADAB3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C0D-C37E-4A61-A91B-33D629D5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3CC-E3DE-4FC8-99A8-4284EF76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17D-340B-4CA7-A807-57897F05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24D-53D4-489F-A606-699AA1FA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13A-6525-4152-B433-595087C1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500-920D-4227-807A-A5E39CF2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BAB-FDD0-45C1-87BF-325D9B76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EB2-44B3-43DC-866F-E90B75D8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B53-F760-4F90-847B-BCC1D0D8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C06-1168-469A-8B37-DB47B11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D5C-F643-452E-8C88-7767CB2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CE4-E69B-4BC2-8B08-03F9F1A3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73EB-9A1A-4EEB-8093-3886BEFEE8EE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Amy_-_mosiac_Small_Web_view.jpg"/>
          <p:cNvPicPr/>
          <p:nvPr/>
        </p:nvPicPr>
        <p:blipFill>
          <a:blip r:embed="rId1"/>
          <a:stretch/>
        </p:blipFill>
        <p:spPr>
          <a:xfrm>
            <a:off x="2411280" y="1125360"/>
            <a:ext cx="4064040" cy="3035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95280" y="4653000"/>
            <a:ext cx="84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600" spc="-1" strike="noStrike">
                <a:solidFill>
                  <a:srgbClr val="ff99ff"/>
                </a:solidFill>
                <a:latin typeface="Calibri"/>
              </a:rPr>
              <a:t>Students with Camer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pic_manager_6.png"/>
          <p:cNvPicPr/>
          <p:nvPr/>
        </p:nvPicPr>
        <p:blipFill>
          <a:blip r:embed="rId1"/>
          <a:stretch/>
        </p:blipFill>
        <p:spPr>
          <a:xfrm>
            <a:off x="250920" y="981000"/>
            <a:ext cx="8497800" cy="4400640"/>
          </a:xfrm>
          <a:prstGeom prst="rect">
            <a:avLst/>
          </a:prstGeom>
          <a:ln w="0">
            <a:noFill/>
          </a:ln>
        </p:spPr>
      </p:pic>
      <p:sp>
        <p:nvSpPr>
          <p:cNvPr id="73" name="Right Arrow 2"/>
          <p:cNvSpPr/>
          <p:nvPr/>
        </p:nvSpPr>
        <p:spPr>
          <a:xfrm>
            <a:off x="6300720" y="4005360"/>
            <a:ext cx="1366920" cy="57600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68360" y="260280"/>
            <a:ext cx="792000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Select the part of the picture you want to retain and Click 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Pic_manager_7_.png"/>
          <p:cNvPicPr/>
          <p:nvPr/>
        </p:nvPicPr>
        <p:blipFill>
          <a:blip r:embed="rId1"/>
          <a:stretch/>
        </p:blipFill>
        <p:spPr>
          <a:xfrm>
            <a:off x="1187280" y="1628640"/>
            <a:ext cx="6897960" cy="1285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258920" y="476280"/>
            <a:ext cx="259236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ight Arrow 3"/>
          <p:cNvSpPr/>
          <p:nvPr/>
        </p:nvSpPr>
        <p:spPr>
          <a:xfrm>
            <a:off x="755640" y="1844640"/>
            <a:ext cx="1368360" cy="4320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826920" y="386064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f you want to use the original photos again, make a cop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Pic_manager_4.png"/>
          <p:cNvPicPr/>
          <p:nvPr/>
        </p:nvPicPr>
        <p:blipFill>
          <a:blip r:embed="rId1"/>
          <a:stretch/>
        </p:blipFill>
        <p:spPr>
          <a:xfrm>
            <a:off x="6875640" y="692280"/>
            <a:ext cx="1535040" cy="3906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324000" y="836640"/>
            <a:ext cx="6264000" cy="131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alibri"/>
              </a:rPr>
              <a:t>Try the other editing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24000" y="4653000"/>
            <a:ext cx="79930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f you want to upload photos to the web, wiki, blog or  email, it’s good to </a:t>
            </a:r>
            <a:r>
              <a:rPr b="1" lang="en-NZ" sz="2400" spc="-1" strike="noStrike">
                <a:solidFill>
                  <a:srgbClr val="000000"/>
                </a:solidFill>
                <a:latin typeface="Calibri"/>
              </a:rPr>
              <a:t>Compress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 your photos before you 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is means they will upload / download more quickly</a:t>
            </a: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684360" y="260280"/>
            <a:ext cx="4103640" cy="149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alibri"/>
              </a:rPr>
              <a:t>Compressing Pho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alibri"/>
              </a:rPr>
              <a:t>CTRL A = Select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Pic_manager_8.png"/>
          <p:cNvPicPr/>
          <p:nvPr/>
        </p:nvPicPr>
        <p:blipFill>
          <a:blip r:embed="rId1"/>
          <a:stretch/>
        </p:blipFill>
        <p:spPr>
          <a:xfrm>
            <a:off x="324000" y="1341360"/>
            <a:ext cx="8313480" cy="3038400"/>
          </a:xfrm>
          <a:prstGeom prst="rect">
            <a:avLst/>
          </a:prstGeom>
          <a:ln w="0">
            <a:noFill/>
          </a:ln>
        </p:spPr>
      </p:pic>
      <p:sp>
        <p:nvSpPr>
          <p:cNvPr id="84" name="Right Arrow 3"/>
          <p:cNvSpPr/>
          <p:nvPr/>
        </p:nvSpPr>
        <p:spPr>
          <a:xfrm>
            <a:off x="5292720" y="3860640"/>
            <a:ext cx="2087640" cy="5763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Calibri"/>
              </a:rPr>
              <a:t>Comp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Pic_manager_9.png"/>
          <p:cNvPicPr/>
          <p:nvPr/>
        </p:nvPicPr>
        <p:blipFill>
          <a:blip r:embed="rId1"/>
          <a:stretch/>
        </p:blipFill>
        <p:spPr>
          <a:xfrm>
            <a:off x="3492360" y="549360"/>
            <a:ext cx="1791000" cy="4829040"/>
          </a:xfrm>
          <a:prstGeom prst="rect">
            <a:avLst/>
          </a:prstGeom>
          <a:ln w="0">
            <a:noFill/>
          </a:ln>
        </p:spPr>
      </p:pic>
      <p:sp>
        <p:nvSpPr>
          <p:cNvPr id="86" name="Right Arrow 2"/>
          <p:cNvSpPr/>
          <p:nvPr/>
        </p:nvSpPr>
        <p:spPr>
          <a:xfrm>
            <a:off x="755640" y="2205000"/>
            <a:ext cx="2448000" cy="71928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Calibri"/>
              </a:rPr>
              <a:t>Select Web P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ight Arrow 3"/>
          <p:cNvSpPr/>
          <p:nvPr/>
        </p:nvSpPr>
        <p:spPr>
          <a:xfrm>
            <a:off x="826920" y="4581360"/>
            <a:ext cx="2160720" cy="71928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Calibri"/>
              </a:rPr>
              <a:t>Click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684360" y="5661000"/>
            <a:ext cx="655164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Calibri"/>
              </a:rPr>
              <a:t>Remember to SAV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187280" y="549360"/>
            <a:ext cx="684072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0000"/>
                </a:solidFill>
                <a:latin typeface="Andalus"/>
                <a:ea typeface="Andalus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ndalus"/>
                <a:ea typeface="Andalus"/>
              </a:rPr>
              <a:t>Telling a story with photograp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alibri"/>
              </a:rPr>
              <a:t>Boost your teaching - tips for better digital photography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alibri"/>
              </a:rPr>
              <a:t>The Essential Guide to Digital Phot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755640" y="620640"/>
            <a:ext cx="662472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0000"/>
                </a:solidFill>
                <a:latin typeface="Andalus"/>
                <a:ea typeface="Andalus"/>
              </a:rPr>
              <a:t>Why take our own phot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Calibri"/>
              </a:rPr>
              <a:t>Copyrigh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Calibri"/>
              </a:rPr>
              <a:t>Ownershi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187280" y="981000"/>
            <a:ext cx="66247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Angsana New"/>
                <a:ea typeface="Angsana New"/>
              </a:rPr>
              <a:t>Task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Take photos of trees and sh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Different tex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Where the leaves join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The b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How dense the leaf foliage is / sun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A whole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1042920" y="836640"/>
            <a:ext cx="72010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ndalus"/>
                <a:ea typeface="Andalus"/>
              </a:rPr>
              <a:t>Task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ndalus"/>
                <a:ea typeface="Andalus"/>
              </a:rPr>
              <a:t>Match your shots with these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Types of camera sho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lose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Extreme close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Over the shou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Birds’ ey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Worms’ ey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Long shot (setting sh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Interesting sh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258920" y="1197000"/>
            <a:ext cx="7273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ow Wha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Power Poi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Comic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5 frame st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oko Moko Movie.wmv" descr=""/>
          <p:cNvPicPr/>
          <p:nvPr/>
        </p:nvPicPr>
        <p:blipFill>
          <a:blip r:embed="rId1"/>
          <a:stretch/>
        </p:blipFill>
        <p:spPr>
          <a:xfrm>
            <a:off x="-4572000" y="-171288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539640" y="836640"/>
            <a:ext cx="7632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Editing Photos on your lap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7375e"/>
                </a:solidFill>
                <a:latin typeface="Calibri"/>
              </a:rPr>
              <a:t>To find Microsoft Office Picture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Start – All Program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Microsoft office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Picture 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684360" y="3284640"/>
            <a:ext cx="4103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. Add Picture Shortc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Pic_Manager_1.png"/>
          <p:cNvPicPr/>
          <p:nvPr/>
        </p:nvPicPr>
        <p:blipFill>
          <a:blip r:embed="rId1"/>
          <a:stretch/>
        </p:blipFill>
        <p:spPr>
          <a:xfrm>
            <a:off x="1042920" y="4005360"/>
            <a:ext cx="2737080" cy="207144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5"/>
          <p:cNvCxnSpPr/>
          <p:nvPr/>
        </p:nvCxnSpPr>
        <p:spPr>
          <a:xfrm>
            <a:off x="1979640" y="3789000"/>
            <a:ext cx="7200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Right Arrow 6"/>
          <p:cNvSpPr/>
          <p:nvPr/>
        </p:nvSpPr>
        <p:spPr>
          <a:xfrm>
            <a:off x="0" y="4941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5580000" y="3284640"/>
            <a:ext cx="309564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Find your photos and Click </a:t>
            </a:r>
            <a:r>
              <a:rPr b="1" lang="en-NZ" sz="2400" spc="-1" strike="noStrike">
                <a:solidFill>
                  <a:srgbClr val="000000"/>
                </a:solidFill>
                <a:latin typeface="Calibri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Pic_Manager_2.png"/>
          <p:cNvPicPr/>
          <p:nvPr/>
        </p:nvPicPr>
        <p:blipFill>
          <a:blip r:embed="rId2"/>
          <a:stretch/>
        </p:blipFill>
        <p:spPr>
          <a:xfrm>
            <a:off x="4427640" y="4653000"/>
            <a:ext cx="4221000" cy="1728720"/>
          </a:xfrm>
          <a:prstGeom prst="rect">
            <a:avLst/>
          </a:prstGeom>
          <a:ln w="0">
            <a:noFill/>
          </a:ln>
        </p:spPr>
      </p:pic>
      <p:sp>
        <p:nvSpPr>
          <p:cNvPr id="62" name="Right Arrow 9"/>
          <p:cNvSpPr/>
          <p:nvPr/>
        </p:nvSpPr>
        <p:spPr>
          <a:xfrm>
            <a:off x="6372360" y="6021360"/>
            <a:ext cx="1224000" cy="432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4"/>
          <p:cNvSpPr/>
          <p:nvPr/>
        </p:nvSpPr>
        <p:spPr>
          <a:xfrm>
            <a:off x="395280" y="404640"/>
            <a:ext cx="3313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3. Click Edit Pi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Pic_Manager_3.png"/>
          <p:cNvPicPr/>
          <p:nvPr/>
        </p:nvPicPr>
        <p:blipFill>
          <a:blip r:embed="rId1"/>
          <a:stretch/>
        </p:blipFill>
        <p:spPr>
          <a:xfrm>
            <a:off x="900000" y="981000"/>
            <a:ext cx="1871640" cy="2068560"/>
          </a:xfrm>
          <a:prstGeom prst="rect">
            <a:avLst/>
          </a:prstGeom>
          <a:ln w="0">
            <a:noFill/>
          </a:ln>
        </p:spPr>
      </p:pic>
      <p:sp>
        <p:nvSpPr>
          <p:cNvPr id="65" name="Right Arrow 6"/>
          <p:cNvSpPr/>
          <p:nvPr/>
        </p:nvSpPr>
        <p:spPr>
          <a:xfrm>
            <a:off x="0" y="2421000"/>
            <a:ext cx="1116000" cy="36036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4572000" y="476280"/>
            <a:ext cx="33847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4.  Crop photo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Pic_manager_4.png"/>
          <p:cNvPicPr/>
          <p:nvPr/>
        </p:nvPicPr>
        <p:blipFill>
          <a:blip r:embed="rId2"/>
          <a:stretch/>
        </p:blipFill>
        <p:spPr>
          <a:xfrm>
            <a:off x="5435640" y="1125360"/>
            <a:ext cx="2089080" cy="5316840"/>
          </a:xfrm>
          <a:prstGeom prst="rect">
            <a:avLst/>
          </a:prstGeom>
          <a:ln w="0">
            <a:noFill/>
          </a:ln>
        </p:spPr>
      </p:pic>
      <p:sp>
        <p:nvSpPr>
          <p:cNvPr id="68" name="Right Arrow 9"/>
          <p:cNvSpPr/>
          <p:nvPr/>
        </p:nvSpPr>
        <p:spPr>
          <a:xfrm>
            <a:off x="4067280" y="4365720"/>
            <a:ext cx="1368360" cy="503280"/>
          </a:xfrm>
          <a:prstGeom prst="rightArrow">
            <a:avLst>
              <a:gd name="adj1" fmla="val 50000"/>
              <a:gd name="adj2" fmla="val 5008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pic_manager_5.png"/>
          <p:cNvPicPr/>
          <p:nvPr/>
        </p:nvPicPr>
        <p:blipFill>
          <a:blip r:embed="rId1"/>
          <a:stretch/>
        </p:blipFill>
        <p:spPr>
          <a:xfrm>
            <a:off x="971640" y="981000"/>
            <a:ext cx="7011720" cy="4543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900000" y="333360"/>
            <a:ext cx="6120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alibri"/>
              </a:rPr>
              <a:t>Use the Crop Hand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ight Arrow 4"/>
          <p:cNvSpPr/>
          <p:nvPr/>
        </p:nvSpPr>
        <p:spPr>
          <a:xfrm>
            <a:off x="468360" y="5084640"/>
            <a:ext cx="1224000" cy="505080"/>
          </a:xfrm>
          <a:prstGeom prst="rightArrow">
            <a:avLst>
              <a:gd name="adj1" fmla="val 50000"/>
              <a:gd name="adj2" fmla="val 4989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0:22:27Z</dcterms:created>
  <dc:creator>ICTPD</dc:creator>
  <dc:description/>
  <dc:language>en-US</dc:language>
  <cp:lastModifiedBy>ICTPD</cp:lastModifiedBy>
  <dcterms:modified xsi:type="dcterms:W3CDTF">2010-07-15T00:30:36Z</dcterms:modified>
  <cp:revision>26</cp:revision>
  <dc:subject/>
  <dc:title>Slide 1</dc:title>
</cp:coreProperties>
</file>